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media/arrow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D2C-53BF-48F5-B050-08BFE81B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2DB-9083-4CCF-9449-B7712180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A15-ABF7-4EC8-A8EA-1F7938DF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E08-58DB-4C82-8DE3-89A6FC14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38D9-B6E3-4E83-81B6-92807CAB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FBEF-9D42-4812-B72A-3412716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BB4-A62A-4011-8DAA-0362687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3016-9BC9-4FC2-9538-19FE0672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3A4-C6C7-4849-BD8B-94EF6C29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A187-C502-4575-A9D9-95232F91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AFFF-A8B4-4599-A805-2152F67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638-FBD4-455C-82A4-FCDD248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813D-50CC-40B4-8748-F52DA9B7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3EA9-224A-4F15-92BD-897D116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E6A0-623C-42CD-A78D-51CC373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0E01-904A-4526-8535-956268C0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01EF-1732-49D6-A513-76EE8F2F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7F4-D5A1-4D58-9D7B-14568DF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360-F6DC-4E5E-B0CF-9E89B26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737-B433-446B-B769-4D2F39D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E16-C111-49C9-B128-2CFC5BC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E95-12EA-4AAF-AE39-1A89649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7D-26FA-4AC4-8C95-F568A4A3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20B-9780-4B5F-92F4-ECBE00E8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2D98-0FAA-4DB3-9FF3-1F3111C784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ECD-5E3D-4FAB-99B4-78B0F5C711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1066680"/>
            <a:ext cx="824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IV- Highways and Roads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- Air Transpo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laces in Russia. For example, there are rivers lik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Volga River, Ob River, and the Lena River. Sea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d oceans that border Russia include the Balt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ea, Sea of Okhotsk, and the Bering Se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0640" y="430020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Kaliningrad-St. Petersburg-Okhotsk- Murmans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Vladivostok-Astrakhan-Petropavlovsk Kamchatsk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 problem with these ports is that they ar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paced far apart from each other. Ships have 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vel another 200 miles to get the most inland par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of Russia, where Kaliningrad is located. Th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pers have the choice to travel another 5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 to the port of St. Petersburg. This consum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ots of time,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uel, and therefore money. However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axes have been cut for foreign  goods coming int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, saving money, and possibly increasin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rad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hip called a icebreaker is used to separate the ice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is mostly state-run. Russian Railways is one o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ggest railway companies in the world, with 0.95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lion employees, a monopoly within it. In fact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otal length of the line is 85,000 kilometers( 53,130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miles), only surpassed by the United States railw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ystem. In 2007, 1.3 billion passengers and 1.3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Pipelines in 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Rail transport in Russi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History of Rail Transport in Russi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16T01:05:24Z</dcterms:modified>
  <cp:revision>31</cp:revision>
  <dc:subject/>
  <dc:title> </dc:title>
</cp:coreProperties>
</file>